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73E-DD9C-4DCD-95DC-A276E3D9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B15-A669-40A9-9225-BC920191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3BFC-FBF8-44EA-8C2F-1F26AE34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823-20DB-414E-829E-817FFA87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F677-B58F-419E-BC16-3A93ED42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E9A2-9C66-4A2A-853F-0DDF67E2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CC24-C405-46D7-BBBD-167E903A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57BC-CEC9-4D50-B73D-BC617884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0B31-F4C0-427F-9E63-1E3C4632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8B09-7DBD-4F35-A91F-7220B144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AC1A-D44B-4F97-8988-090EE5E0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925-982A-4109-8F16-F4C5E7DF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2EA4-1D68-43B5-B0DE-CC27C281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E64E-924D-435B-91E6-4D2AEC15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61E8-AEAE-4B5C-B8B4-1DBD0EE4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BE4A-0312-496D-B137-B2E5D3F1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AF7B-EB42-42D5-9D26-157234F9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36AF-7383-4FF4-B641-6A49311B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0DBE-CC40-4BB9-B906-C19F1A06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6A20-3D21-41A5-A65D-79AFE9C0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1D32-0334-4AF9-8E4E-6993321B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82B-B116-4D64-9286-5C453A9A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AC3-13E5-4D82-9545-819498C0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72F-02EE-4450-8D56-26D4F4FD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3E0A-38B0-4415-9128-788AC9D22A2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5D68-9187-45A6-9E89-AB9530A8C1B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PICC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封管采用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 ，严禁使用小于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注射器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食管癌最突出的症状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吞咽困难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护士人格尊严，人身安全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，全社会应当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护士。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上消化道出血  最常见的原因：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    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成人颅内压持续超过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200mmH2O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时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低血钾症最初的表现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瞳孔缩小指一般光照射下瞳孔＜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心前区用冷疗易引起反射性的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和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每空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护士执业应当遵守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强心甙的不良反应：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酒精拭浴时，禁止擦拭的部位是：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使用强心甙类的药物，心率低于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次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分不可使用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护士应当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患者，保护患者的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肝性脑病自轻至重可分为四期，扑翼样震颤即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，最早可出现在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期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安定注射液可用于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法莫替丁通过阻断胃黏膜壁细胞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受体， 抑制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分泌，促进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ahoma"/>
              </a:rPr>
              <a:t>        溃疡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愈合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休克的观察要点（十个）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小儿惊厥的临床表现：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或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  面色苍白或发绀，伴喉痉挛者可出现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肠梗阻的临床表现（五个）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病房内医护人员的四轻是指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库欣综合征的主要临床表现（五种）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流行性出血热的三红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头部受伤的患者出线眶周广泛淤血斑（熊猫眼）和脑脊液鼻漏提示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脂溶性维生素包括（四种）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三查、七对、一注意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患者女性，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49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岁，患有糖尿病酮症酸中毒，尿糖阳性。患者呼吸气味呈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服用磺胺类药物后指导患者应 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使用静脉穿刺套管针时，每次输液前后应检查穿刺部位及静脉走向有无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、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及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，询问患者有无不适，如发现异常应及时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肾上腺素应用于临床（五个） 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大量不保留灌肠的禁忌症（三个）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判断心脏骤停的临床表现（四个）：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尿常规标本最好收集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尿作为标本，并需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送检。一般标本排出到试验应在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内完成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人在最大深吸气后，在做一次最大的深呼气时，所能呼出的最大气量称为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心梗抗凝疗法由肝素引起的出血，应用等量的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静脉滴注对抗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肝硬化病人，肝功能显著损害、血氨偏高或有肝性脑病先兆者应限制或禁食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外科感染时脓液淡绿色，有特殊的腥臭的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感染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为感染的病人采集送细菌培养的标本时最好在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时抽血，以便提高阳性率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采集血标本时，一般应先采集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，其次为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，最后为促凝管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颅高压时的呕吐为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状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0:59:52Z</dcterms:created>
  <dc:creator>user</dc:creator>
  <dc:description/>
  <dc:language>en-US</dc:language>
  <cp:lastModifiedBy>wj</cp:lastModifiedBy>
  <dcterms:modified xsi:type="dcterms:W3CDTF">2011-12-31T11:23:27Z</dcterms:modified>
  <cp:revision>108</cp:revision>
  <dc:subject/>
  <dc:title>社区卫生服务优质服务与市场宣传推广</dc:title>
</cp:coreProperties>
</file>