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E41-B5FC-4AF3-8A40-87A2DD50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FF6-6455-4FD0-9DAC-3551899B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B8C-8CDE-4459-9BC2-0661D7E7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96A-A678-475C-A57F-45B33C15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5317-B650-4919-B0BB-0D91BBD4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5704-BAA9-4477-BAAD-3894A550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8CB4-B44A-4838-947B-D21C9ADA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EA7A-B0A9-4902-AF69-A52FC9D0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543C-BBB8-4F16-8A15-DBF349EC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7EDA-0708-4803-92E6-12B81789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4B38-81FA-4174-A7E1-D4DBEAA4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4D8-9E18-4E7C-8914-3095A24A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5725-3886-46EC-87F4-515392F5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EAC2-1FAD-4B4F-8DA5-6062970E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FA9A-6C52-4433-896B-EFE439DB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6865-A3E7-44DC-B37F-1D186D72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FFEC-7B79-479A-9EE0-DB1C59B0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F11-A730-4733-99F2-9550FE71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3CCD-067E-4D43-917B-5C627463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81A-2780-45FA-A6A9-739BB969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7FE-1E42-4C22-AB22-546467E3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370-50ED-474B-9A3B-055F548F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738-7AE2-40AA-A6B2-EE6FAFAB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B9C-544B-47F9-B2E3-75D11A91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B826-2E65-4E39-A006-0003714E4FB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E350-831B-4729-B698-CDDB3D38EB1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PICC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封管采用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 ，严禁使用小于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注射器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食管癌最突出的症状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吞咽困难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护士人格尊严，人身安全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，全社会应当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护士。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上消化道出血  最常见的原因：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 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成人颅内压持续超过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200mmH2O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时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低血钾症最初的表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瞳孔缩小指一般光照射下瞳孔＜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心前区用冷疗易引起反射性的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每空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护士执业应当遵守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强心甙的不良反应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酒精拭浴时，禁止擦拭的部位是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使用强心甙类的药物，心率低于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次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分不可使用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护士应当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患者，保护患者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肝性脑病自轻至重可分为四期，扑翼样震颤即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，最早可出现在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期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安定注射液可用于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法莫替丁通过阻断胃黏膜壁细胞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受体， 抑制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分泌，促进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ahoma"/>
              </a:rPr>
              <a:t>        溃疡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愈合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休克的观察要点（十个）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小儿惊厥的临床表现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或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  面色苍白或发绀，伴喉痉挛者可出现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肠梗阻的临床表现（五个）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病房内医护人员的四轻是指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库欣综合征的主要临床表现（五种）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流行性出血热的三红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头部受伤的患者出线眶周广泛淤血斑（熊猫眼）和脑脊液鼻漏提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脂溶性维生素包括（四种）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三查、七对、一注意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患者女性，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49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岁，患有糖尿病酮症酸中毒，尿糖阳性。患者呼吸气味呈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服用磺胺类药物后指导患者应 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使用静脉穿刺套管针时，每次输液前后应检查穿刺部位及静脉走向有无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，询问患者有无不适，如发现异常应及时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肾上腺素应用于临床（五个） 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大量不保留灌肠的禁忌症（三个）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判断心脏骤停的临床表现（四个）：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尿常规标本最好收集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尿作为标本，并需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送检。一般标本排出到试验应在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内完成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人在最大深吸气后，在做一次最大的深呼气时，所能呼出的最大气量称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心梗抗凝疗法由肝素引起的出血，应用等量的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静脉滴注对抗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肝硬化病人，肝功能显著损害、血氨偏高或有肝性脑病先兆者应限制或禁食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外科感染时脓液淡绿色，有特殊的腥臭的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感染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为感染的病人采集送细菌培养的标本时最好在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时抽血，以便提高阳性率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采集血标本时，一般应先采集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，其次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，最后为促凝管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颅高压时的呕吐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状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0:59:52Z</dcterms:created>
  <dc:creator>user</dc:creator>
  <dc:description/>
  <dc:language>en-US</dc:language>
  <cp:lastModifiedBy>wj</cp:lastModifiedBy>
  <dcterms:modified xsi:type="dcterms:W3CDTF">2011-12-31T11:23:27Z</dcterms:modified>
  <cp:revision>108</cp:revision>
  <dc:subject/>
  <dc:title>社区卫生服务优质服务与市场宣传推广</dc:title>
</cp:coreProperties>
</file>