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D393-DE10-4441-BA16-4468BD98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C893-4A1D-4194-B2DE-9857FC9C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187-02C4-434C-AC4F-8FBED13A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6EB-E3CA-4AAC-AF77-D9014666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227D-3A42-49B9-8427-36AF0171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CCB1-D5C5-45E0-A490-07B4374E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C554-FB10-4295-B566-C32BCE86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A074-7660-4E52-A8C4-F8B78638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47C6-0533-4774-984B-3641A947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E60C-D70D-401A-BD2B-4954B3D6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3EC1-8346-45FB-9DD5-2F3B8656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465F-DA1C-465A-865C-E9F7A781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CE89-CC87-4998-A369-02DF06A0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CAB6-3F4C-40EC-8ADF-4E1209BB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FF44-E8BB-4B92-968B-AF8CE743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E0B8-8348-4F73-961E-733074F6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FECF-008E-4238-9191-2B9EFE25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BA41-1285-40B0-B544-3BBDC0AD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E59-6EF6-46F0-A080-0B9DC1C9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B7D-CA35-4920-A993-6A4B1922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CEE-BD68-4FB6-9E66-510D2F7D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A5B-7CB0-4A87-8B18-20CF4C0D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D3D3-0709-43B2-9CC3-68B50CAC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F9CD-3841-43DD-9503-4E48F002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54C0-482A-4723-9873-8D1F9E01ED0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C748-5989-4313-AE0C-9FB01F8733B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成人脊柱的四个生理弯曲是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低钙血症指的是血钙低于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mg%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相当于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mmol/L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急性白血病患者出现感染的原因多见于（两个）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9356760" y="487692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免疫系统的组成由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三个）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护理程序的五个步骤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护理诊断的五种形式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护患关系中的中心是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心衰的诱因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六个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左心衰的两个主要表现为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右心衰的主要表现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十二指肠溃疡的疼痛多为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，进餐后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男尿道的三个狭窄与两个弯曲是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急性胰腺炎的患者疼痛剧烈时可遵医嘱给予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，但禁用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胃溃疡的疼痛多在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餐后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小时出现，至下餐前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。  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少尿是指：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小时尿量小于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518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无尿是指：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小时尿量小于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518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518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518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大脑细胞耐受缺氧时间为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分钟。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不同部位注射胰岛素时，吸收速度不同最快的部位是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；最慢的部位是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稽留热是指：体温持续在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℃以上，达数天或数周，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24h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内波动范围不超  过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℃。多见于急性肺炎、肺炎球菌肺炎。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第一次放尿不应超过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临床应用冰袋时，用冷时间最长不超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过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分钟，休息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分钟后再使用。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无菌包上应贴的六项技术包括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用绷带固定时，应从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心端向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心端螺旋缠绕，关节处用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包扎。注意不要过紧，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应外露，以便观察末梢循环。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心尖的位置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护理诊断的陈述包括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四个）：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岁以下婴幼儿注射部位不宜选择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，应选择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肺结核的化疗原则（五个）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大便隐血试验阳性提示每天出血量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；出现黑便表明出血量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ahoma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以上；胃内积血量达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可引起呕血。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肠梗阻的共同特征（五个）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颅内压增高的三大主征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糖尿病急性并发症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四个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糖尿病患者运动时间一般选择在饭后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小时开始，持续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小时。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浅昏迷时瞳孔对光反射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。腱反射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新鲜骨折指伤后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周内的骨折。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机体生理功能的三大调节方式是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短效胰岛素的注射时间应在餐前：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分钟，每日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次。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开放性骨折首先进行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，然后用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固定。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中效胰岛素的注射时间应在餐前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小时，每日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次。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骨折常见的病因（五个）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肺栓塞包括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（四个）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中度昏迷时瞳孔对光反射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。腱反射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或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深昏迷时瞳孔对光反射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。腱反射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大量不保留灌肠时，灌肠筒液液面距肛门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cm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；肛管应插入直肠内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cm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长效胰岛素的注射时间应在餐前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小时，每日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 次。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TAT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过敏试验阳性的判断标准：局部皮丘红肿，硬结大于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cm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，红晕超过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cm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，有伪足、痒感。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心肌的电生理特性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四个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支气管扩张时痰液分为三层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9600" spc="-1" strike="noStrike">
                <a:solidFill>
                  <a:srgbClr val="000000"/>
                </a:solidFill>
                <a:latin typeface="Tahoma"/>
              </a:rPr>
              <a:t>人工心脏起搏器术后病人的卧位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组织间液和血浆所含溶质的主要区别是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在人血清中含量最高的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Ig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是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急性胰腺炎行胃肠减压治疗的目的是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糖皮质激素治疗系统性红斑狼疮的作用机制是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急性心肌梗死患者中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50%-80%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病前有先兆，常见的表现是 </a:t>
            </a:r>
            <a:r>
              <a:rPr b="0" lang="zh-CN" sz="8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栓塞分为：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免疫细胞包括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肝硬化的出血倾向主要是由于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影响动脉血压的因素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五个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):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6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系统性红斑狼疮患者合并肾功能不全时应给予的饮食为：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室上性心动过速时，按压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Tahoma"/>
              </a:rPr>
              <a:t>     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区可使心率减慢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人体散热的方式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四种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胰岛素的生物学作用是促进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，调节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稳定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0:59:52Z</dcterms:created>
  <dc:creator>user</dc:creator>
  <dc:description/>
  <dc:language>en-US</dc:language>
  <cp:lastModifiedBy>wj</cp:lastModifiedBy>
  <dcterms:modified xsi:type="dcterms:W3CDTF">2011-12-31T09:52:02Z</dcterms:modified>
  <cp:revision>97</cp:revision>
  <dc:subject/>
  <dc:title>社区卫生服务优质服务与市场宣传推广</dc:title>
</cp:coreProperties>
</file>